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E4F-FA71-4C0E-BC8F-743BA41E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EB6-AED2-43CC-A392-69427BB9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F6D-3587-497B-95C8-52EB0775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DF2-5E9B-480F-ACCF-05EA7427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F8A-FD43-438A-B4A6-4A07A724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2FE-20FC-48F8-BB4C-9BF6F9AB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AE1-B845-4390-9BE2-82F5F76F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100-AB3C-42B8-A7E1-6200A1EC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939-6697-442B-ACDF-94A4648F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F07-C750-4210-8BB8-DD4552E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08E-F775-4E0E-BA55-B1BF577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0E7-E2DF-499C-B185-2C6583B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6FAC-F3A6-41DB-BDD4-938BE6E6E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829040" cy="2971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ΗΜΕΡΙΔΑ-ΣΕΜΙΝΑΡΙΟ ΠΕΡΙΒΑΛΛΟΝΤΙΚΗΣ ΕΚΠΑΙΔΕΥΣΗΣ-</a:t>
            </a: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ΑΓΩΓΗΣ ΥΓΕΙΑΣ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12-11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13:50Z</dcterms:created>
  <dc:creator>air1</dc:creator>
  <dc:description/>
  <dc:language>en-US</dc:language>
  <cp:lastModifiedBy>air1</cp:lastModifiedBy>
  <dcterms:modified xsi:type="dcterms:W3CDTF">2011-11-09T10:39:24Z</dcterms:modified>
  <cp:revision>2</cp:revision>
  <dc:subject/>
  <dc:title>ΗΜΕΡΙΔΑ-ΣΕΜΙΝΑΡΙΟ ΠΕΡΙΒΑΛΛΟΝΤΙΚΗΣ ΕΚΠΑΙΔΕΥΣΗΣ- ΑΓΩΓΗΣ ΥΓΕΙΑΣ  12-11-2011</dc:title>
</cp:coreProperties>
</file>