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6840-87D3-43E4-8C89-31AE75E20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54062-5BCA-46B9-9629-BD13A3A29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18098-D747-4783-A0E5-6A39FD9B0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E76AC-C518-4A0B-AFFD-C76F9186F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C54A9-75BD-4CA2-9236-2D3F9091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F0B0-5554-41E2-9E85-4E4E9D2EC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2B3C-C038-42EE-9487-5ECC638A1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2A04-F6F5-4A28-A538-1346766D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5D10-DAED-4B9D-A766-2C6DA63E1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A66A-9144-42C2-ACF2-23DB0A43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0F6A6-86F7-44B5-936C-AA2EAA8D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D9211-6241-4FDC-A820-DAA92241F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DDEB-612B-4860-94E9-6D4F2AADF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il@1kesyp-d-athin.att.sch.gr" TargetMode="External"/><Relationship Id="rId2" Type="http://schemas.openxmlformats.org/officeDocument/2006/relationships/hyperlink" Target="mailto:mail@1kesyp-d-athin.att.sch.g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ΕΣΥΠ ΑΛΙΜΟΥ</a:t>
            </a:r>
            <a:endParaRPr b="0" lang="en-US" sz="4400" spc="-1" strike="noStrike">
              <a:solidFill>
                <a:srgbClr val="000000"/>
              </a:solidFill>
              <a:latin typeface="Arial"/>
            </a:endParaRPr>
          </a:p>
        </p:txBody>
      </p:sp>
      <p:sp>
        <p:nvSpPr>
          <p:cNvPr id="42" name="PlaceHolder 2"/>
          <p:cNvSpPr>
            <a:spLocks noGrp="1"/>
          </p:cNvSpPr>
          <p:nvPr>
            <p:ph type="subTitle"/>
          </p:nvPr>
        </p:nvSpPr>
        <p:spPr>
          <a:xfrm>
            <a:off x="468360" y="1916280"/>
            <a:ext cx="8207280" cy="28080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άτμου 1 και Δωδεκανήσου</a:t>
            </a:r>
            <a:r>
              <a:rPr b="0" lang="el-GR"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Τ.Κ 17 456 ΄Αλιμος</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ηλέφωνο επικοινωνίας: </a:t>
            </a:r>
            <a:r>
              <a:rPr b="0" lang="el-GR" sz="1800" spc="-1" strike="noStrike">
                <a:solidFill>
                  <a:srgbClr val="000000"/>
                </a:solidFill>
                <a:latin typeface="Arial"/>
              </a:rPr>
              <a:t>     2</a:t>
            </a:r>
            <a:r>
              <a:rPr b="1" lang="el-GR" sz="1800" spc="-1" strike="noStrike">
                <a:solidFill>
                  <a:srgbClr val="000000"/>
                </a:solidFill>
                <a:latin typeface="Arial"/>
              </a:rPr>
              <a:t>10-995503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ηλεομοιοτυπία: </a:t>
            </a:r>
            <a:r>
              <a:rPr b="0" lang="el-GR" sz="1800" spc="-1" strike="noStrike">
                <a:solidFill>
                  <a:srgbClr val="000000"/>
                </a:solidFill>
                <a:latin typeface="Arial"/>
              </a:rPr>
              <a:t>                   2</a:t>
            </a:r>
            <a:r>
              <a:rPr b="1" lang="el-GR" sz="1800" spc="-1" strike="noStrike">
                <a:solidFill>
                  <a:srgbClr val="000000"/>
                </a:solidFill>
                <a:latin typeface="Arial"/>
              </a:rPr>
              <a:t>10-9954200</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λεκτρονικό ταχυδρομείο:</a:t>
            </a:r>
            <a:r>
              <a:rPr b="0" lang="el-GR" sz="1800" spc="-1" strike="noStrike" u="sng">
                <a:solidFill>
                  <a:srgbClr val="009999"/>
                </a:solidFill>
                <a:uFillTx/>
                <a:latin typeface="Arial"/>
                <a:hlinkClick r:id="rId1"/>
              </a:rPr>
              <a:t>mail@1kesyp-d-</a:t>
            </a:r>
            <a:r>
              <a:rPr b="0" lang="el-GR" sz="1800" spc="-1" strike="noStrike" u="sng">
                <a:solidFill>
                  <a:srgbClr val="009999"/>
                </a:solidFill>
                <a:uFillTx/>
                <a:latin typeface="Arial"/>
                <a:hlinkClick r:id="rId2"/>
              </a:rPr>
              <a:t>athin.att.sch.g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ι είναι το ΚΕ.ΣΥ.Π.</a:t>
            </a:r>
            <a:r>
              <a:rPr b="1" lang="en-US" sz="3200" spc="-1" strike="noStrike">
                <a:solidFill>
                  <a:srgbClr val="000000"/>
                </a:solidFill>
                <a:latin typeface="Times New Roman"/>
              </a:rPr>
              <a:t> ;</a:t>
            </a:r>
            <a:br>
              <a:rPr sz="3200"/>
            </a:b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Times New Roman"/>
              </a:rPr>
              <a:t>Το Κέντρο Συμβουλευτικής και Προσανατολισμού (ΚΕ.ΣΥ.Π.) Αλίμου ανήκει στη Δ' Διεύθυνση Δευτεροβάθμιας Εκπαίδευσης Αθήνας. Στην περιοχή ευθύνης του, έχουν ενταχθεί οι σχολικές μονάδες δευτεροβάθμιας εκπαίδευσης που λειτουργούν στους δήμους Αγ. Δημητρίου, Αλίμου, Αργυρούπολης, Γλυφάδας, Ελληνικού και Παλαιού Φαλήρου</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Το ΚΕ.ΣΥ.Π. Αλίμου λειτουργεί από το σχολικό έτος 2000-2001 και στελεχώνεται από εκπαιδευτικούς εξειδικευμένους στη Συμβουλευτική και τον Επαγγελματικό Προσανατολισμ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Είναι εξοπλισμένο με ηλεκτρονικούς υπολογιστές, εποπτικά μέσα για τη διεξαγωγή σεμιναρίων και διαθέτει πρόσβαση στο διαδίκτυ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Εχει βιβλιοθήκη με πλούσιο πληροφοριακό υλικό (έντυπο και ηλεκτρονικό) σχετικό με τις εκπαιδευτικές και επαγγελματικές επιλογές και την αγορά εργασίας, το οποίο επικαιροποιείται συνεχώς από τα στελέχη του ΚΕ.ΣΥ.Π., με στόχο την έγκυρη πληροφόρηση των συμβουλευομένων.</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Συνεργάζεται με το Υπουργείο Παιδείας, το Ινστιτούτο Εκπαιδευτικής Πολιτικής και πολλούς εκπαιδευτικούς, επαγγελματικούς και επιστημονικούς φορεί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Απευθύνεται σε: </a:t>
            </a:r>
            <a:br>
              <a:rPr sz="3200"/>
            </a:b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Μαθητές Δευτεροβάθμιας Εκπαίδευση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Νέους έως 25 ετώ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Γονεί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Εκπαιδευτικούς</a:t>
            </a:r>
            <a:endParaRPr b="0" lang="en-US" sz="2400" spc="-1" strike="noStrike">
              <a:solidFill>
                <a:srgbClr val="000000"/>
              </a:solidFill>
              <a:latin typeface="Arial"/>
            </a:endParaRPr>
          </a:p>
        </p:txBody>
      </p:sp>
      <p:sp>
        <p:nvSpPr>
          <p:cNvPr id="4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Το ΚΕ.ΣΥ.Π. παρέχει:</a:t>
            </a:r>
            <a:endParaRPr b="0" lang="en-US" sz="3200" spc="-1" strike="noStrike">
              <a:solidFill>
                <a:srgbClr val="000000"/>
              </a:solidFill>
              <a:latin typeface="Arial"/>
            </a:endParaRPr>
          </a:p>
        </p:txBody>
      </p:sp>
      <p:sp>
        <p:nvSpPr>
          <p:cNvPr id="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Υποστήριξη σχεδιασμού και υλοποίησης προγραμμάτων αγωγής σταδιοδρομίας των σχολείων ευθύνης του.</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Συμβουλευτική στήριξη σε μαθητές και νέους, για να μπορέσουν να διερευνήσουν τις επιθυμίες, τα ενδιαφέροντα και τις δεξιότητές τους, ώστε να κάνουν τις καλύτερες, γι’ αυτούς, επιλογές για τις σπουδές και το επάγγελμά τους</a:t>
            </a:r>
            <a:r>
              <a:rPr b="0" lang="el-GR"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Πληροφόρηση σχετικά με τις σπουδές, τα επαγγέλματα και την αγορά εργασίας</a:t>
            </a:r>
            <a:r>
              <a:rPr b="0" lang="el-GR"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Επιστημονική και συμβουλευτική στήριξη των καθηγητών που εφαρμόζουν το Σχολικό Επαγγελματικό Προσανατολισμό στις σχολικές μονάδες δευτεροβάθμιας εκπαίδευσης.</a:t>
            </a:r>
            <a:endParaRPr b="0" lang="en-US" sz="2000" spc="-1" strike="noStrike">
              <a:solidFill>
                <a:srgbClr val="000000"/>
              </a:solidFill>
              <a:latin typeface="Arial"/>
            </a:endParaRPr>
          </a:p>
        </p:txBody>
      </p:sp>
      <p:sp>
        <p:nvSpPr>
          <p:cNvPr id="5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Οργανώνει:</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ενημερωτικές συναντήσεις για μαθητές και γονείς</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επιμορφωτικά σεμινάρια και ημερίδες για τους καθηγητές που εφαρμόζουν το ΣΕΠ στα σχολεία</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Σεμινάρια συμβουλευτικής για γονείς και εκπαιδευτικούς</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ΩΡΑΡΙΟ ΛΕΙΤΟΥΡΓΙΑΣ ΚΕΣΥΠ ΑΛΙΜΟΥ</a:t>
            </a:r>
            <a:endParaRPr b="0" lang="en-US" sz="3200" spc="-1" strike="noStrike">
              <a:solidFill>
                <a:srgbClr val="000000"/>
              </a:solidFill>
              <a:latin typeface="Arial"/>
            </a:endParaRPr>
          </a:p>
        </p:txBody>
      </p:sp>
      <p:sp>
        <p:nvSpPr>
          <p:cNvPr id="5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ευτέρα:09.00-19.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ρίτη:09.00-15.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ετάρτη :8.30-14.30</a:t>
            </a:r>
            <a:r>
              <a:rPr b="1" lang="en-US" sz="2400" spc="-1" strike="noStrike">
                <a:solidFill>
                  <a:srgbClr val="000000"/>
                </a:solidFill>
                <a:latin typeface="Times New Roman"/>
              </a:rPr>
              <a:t> &amp; 16.00</a:t>
            </a:r>
            <a:r>
              <a:rPr b="1" lang="el-GR" sz="2400" spc="-1" strike="noStrike">
                <a:solidFill>
                  <a:srgbClr val="000000"/>
                </a:solidFill>
                <a:latin typeface="Times New Roman"/>
              </a:rPr>
              <a:t>-2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έμπτη:09.00-17.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αρασκευή:8.30-14.3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ΑΡΑΤΗΡΗΣΗ: Απόγευμα :ραντεβού.</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ΣΧΟΛΕΙΑ ΑΡΜΟΔΙΟΤΗΤΑΣ ΥΠΕΥΘΥΝΩΝ ΚΕΣΥΠ ΑΛΙΜΟΥ</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Παπαδάκη Ελευθερία: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Σχολεία δήμων: Αγ. Δημητρίου ,Αλίμου ,Γυμνάσια Παλαιού Φαλήρου:</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3</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4</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και ΓΕΛ Παλαιού Φαλήρου : 1 </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και 3</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Σωτηροπούλου Κωνσταντίνα:</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Σχολεία δήμων :Αργυρούπολης ,Γλυφάδας ,Ελληνικού, Γυμνάσια Παλαιού Φαλήρου:2</a:t>
            </a:r>
            <a:r>
              <a:rPr b="0" lang="en-US" sz="2000" spc="-1" strike="noStrike" baseline="30000">
                <a:solidFill>
                  <a:srgbClr val="000000"/>
                </a:solidFill>
                <a:latin typeface="Times New Roman"/>
              </a:rPr>
              <a:t>ο </a:t>
            </a:r>
            <a:r>
              <a:rPr b="0" lang="en-US" sz="2000" spc="-1" strike="noStrike">
                <a:solidFill>
                  <a:srgbClr val="000000"/>
                </a:solidFill>
                <a:latin typeface="Times New Roman"/>
              </a:rPr>
              <a:t>και 5</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ΓΕΛ Παλαιού Φαλήρου :2</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και 4</a:t>
            </a:r>
            <a:r>
              <a:rPr b="0" lang="en-US" sz="2000" spc="-1" strike="noStrike" baseline="30000">
                <a:solidFill>
                  <a:srgbClr val="000000"/>
                </a:solidFill>
                <a:latin typeface="Times New Roman"/>
              </a:rPr>
              <a:t>ο</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08:20:07Z</dcterms:created>
  <dc:creator>ΕΛΕΥΘΕΡΙΑ ΠΑΠΑΔΑΚΗ</dc:creator>
  <dc:description/>
  <dc:language>en-US</dc:language>
  <cp:lastModifiedBy>ΕΛΕΥΘΕΡΙΑ ΠΑΠΑΔΑΚΗ</cp:lastModifiedBy>
  <dcterms:modified xsi:type="dcterms:W3CDTF">2012-10-28T13:46:07Z</dcterms:modified>
  <cp:revision>31</cp:revision>
  <dc:subject/>
  <dc:title>ΚΕΣΥΠ ΑΛΙΜΟΥ</dc:title>
</cp:coreProperties>
</file>