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6535-604F-4C2B-87F0-9A58C6423D7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F1DCE-4584-4537-B8E9-4340658EAF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311-ECB3-4209-B0F2-B00FDBA8EA4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406D-7F37-407D-A9EC-BA7C8A8B6B2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7E07C-73F8-451B-9BF0-E3E0F62176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9BC2-5E02-4CE0-957D-D71E88F7054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9119C-9BD9-4287-B89F-2C8036B2BED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5454-62D0-48BE-831D-5ED058B9AC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6C71-341F-49E5-9CB9-2E29E6E908F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03EF-A01F-4249-8207-90230960308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E344-A1A9-4F6E-A537-DCDF7F12B1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ιαμόρφωση του χώρου: Μια βολική διάταξη των εργαστηριακών πάγκων είναι σε μορφή 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ECC6-FB1C-47D2-849B-D025C211820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71612-369E-4A30-B36B-754230FE78F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07810-2796-468F-9E85-6420320F89C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FC82-C9DB-4D9F-8A6D-30844A4E985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8F0CA-92A1-4810-9486-13123AA5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5A68-22CB-4CE8-859F-E737938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D5F4-C056-4EA2-808D-7A8183AF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781-59C9-4B80-BDD6-EAC1A545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D73D-3577-4C0B-B8CA-33AE67B3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29F8-203E-44F3-984E-97008CC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B60-8F93-44A6-9CCE-545A958B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5C6-F89E-485C-BA6E-1E9961F8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A75-6C33-4267-A7D5-6535D8A2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A2D-DB91-4809-85F9-FEEA92A4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B56-6952-497A-A451-21E18A16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0520-0576-4F40-8205-72F34B22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Γιάννης Γράψας, Δρ. Χημικός (ΕΚΦΕ Ν. Σμύρνης) Ανδρέας Πάτσης, Δρ. Φυσικός (ΕΚΦΕ Αλίμο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52E3-5C68-4CF0-9D4A-BA87AF4EE1D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1" descr="Αρσάκειο2"/>
          <p:cNvPicPr/>
          <p:nvPr/>
        </p:nvPicPr>
        <p:blipFill>
          <a:blip r:embed="rId1"/>
          <a:stretch/>
        </p:blipFill>
        <p:spPr>
          <a:xfrm>
            <a:off x="611280" y="765000"/>
            <a:ext cx="7634160" cy="4896000"/>
          </a:xfrm>
          <a:prstGeom prst="rect">
            <a:avLst/>
          </a:prstGeom>
          <a:ln w="0">
            <a:noFill/>
          </a:ln>
        </p:spPr>
      </p:pic>
      <p:sp>
        <p:nvSpPr>
          <p:cNvPr id="49" name="4 - TextBox"/>
          <p:cNvSpPr/>
          <p:nvPr/>
        </p:nvSpPr>
        <p:spPr>
          <a:xfrm>
            <a:off x="2484360" y="609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b050"/>
                </a:solidFill>
                <a:latin typeface="Arial"/>
              </a:rPr>
              <a:t>Αρσάκειο Θηλέων 19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8445600" cy="3467160"/>
          </a:xfrm>
          <a:prstGeom prst="rect">
            <a:avLst/>
          </a:prstGeom>
          <a:ln w="0">
            <a:noFill/>
          </a:ln>
        </p:spPr>
      </p:pic>
      <p:sp>
        <p:nvSpPr>
          <p:cNvPr id="84" name="2 - TextBox"/>
          <p:cNvSpPr/>
          <p:nvPr/>
        </p:nvSpPr>
        <p:spPr>
          <a:xfrm>
            <a:off x="2700360" y="4437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5 - Ομάδα"/>
          <p:cNvGrpSpPr/>
          <p:nvPr/>
        </p:nvGrpSpPr>
        <p:grpSpPr>
          <a:xfrm>
            <a:off x="1476360" y="1844640"/>
            <a:ext cx="6197760" cy="3859200"/>
            <a:chOff x="1476360" y="1844640"/>
            <a:chExt cx="6197760" cy="3859200"/>
          </a:xfrm>
        </p:grpSpPr>
        <p:pic>
          <p:nvPicPr>
            <p:cNvPr id="86" name="Picture 4" descr=""/>
            <p:cNvPicPr/>
            <p:nvPr/>
          </p:nvPicPr>
          <p:blipFill>
            <a:blip r:embed="rId1"/>
            <a:stretch/>
          </p:blipFill>
          <p:spPr>
            <a:xfrm>
              <a:off x="1476360" y="1844640"/>
              <a:ext cx="6197760" cy="175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" descr=""/>
            <p:cNvPicPr/>
            <p:nvPr/>
          </p:nvPicPr>
          <p:blipFill>
            <a:blip r:embed="rId2"/>
            <a:stretch/>
          </p:blipFill>
          <p:spPr>
            <a:xfrm>
              <a:off x="1620360" y="3429000"/>
              <a:ext cx="6049080" cy="2274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Users\Rex\Desktop\Νέος φάκελος\P1020835 (Small).JPG"/>
          <p:cNvPicPr/>
          <p:nvPr/>
        </p:nvPicPr>
        <p:blipFill>
          <a:blip r:embed="rId1"/>
          <a:stretch/>
        </p:blipFill>
        <p:spPr>
          <a:xfrm>
            <a:off x="1187280" y="2852640"/>
            <a:ext cx="3251520" cy="2438640"/>
          </a:xfrm>
          <a:prstGeom prst="rect">
            <a:avLst/>
          </a:prstGeom>
          <a:ln w="0">
            <a:noFill/>
          </a:ln>
        </p:spPr>
      </p:pic>
      <p:sp>
        <p:nvSpPr>
          <p:cNvPr id="89" name="2 - TextBox"/>
          <p:cNvSpPr/>
          <p:nvPr/>
        </p:nvSpPr>
        <p:spPr>
          <a:xfrm>
            <a:off x="971640" y="1268280"/>
            <a:ext cx="7345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Δραστηριότητες Οκτωβρίου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ΕΚΦΕ Ν. Σμύρνης 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5 συναντήσεις καθηγητών – 1 δειγματική διδασκαλία στην ΣΤ’ Δημοτικο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4 - Εικόνα" descr="Dimotiko.jpg"/>
          <p:cNvPicPr/>
          <p:nvPr/>
        </p:nvPicPr>
        <p:blipFill>
          <a:blip r:embed="rId2"/>
          <a:stretch/>
        </p:blipFill>
        <p:spPr>
          <a:xfrm>
            <a:off x="4572000" y="2852640"/>
            <a:ext cx="324000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Αρσάκειο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907920"/>
            <a:ext cx="7488000" cy="4802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324000" y="1932120"/>
            <a:ext cx="849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Για να διευκολυνθεί η εμβάθυνση και κατανόηση του περιεχομένο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Να διδαχθεί επιστημονική μεθοδολογία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Να διδαχθεί ένας τρόπος με τον οποίο οι μαθητές μπορούν να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μαθαίνου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Να καλλιεργηθούν πρακτικές δεξιότητε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23960"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Να αναπτυχθούν ικανότητες των μαθητών για συνεργασία και λειτουργία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στο  πλαίσιο ομάδ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24000" y="4437000"/>
            <a:ext cx="85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3300"/>
                </a:solidFill>
                <a:latin typeface="Arial"/>
              </a:rPr>
              <a:t>Περιλαμβάνει πειράματα επίδειξης, καθοδηγούμενες εργαστηριακές ασκήσεις και ελεύθερες δραστηριότητες των μαθητώ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3"/>
          <p:cNvSpPr/>
          <p:nvPr/>
        </p:nvSpPr>
        <p:spPr>
          <a:xfrm>
            <a:off x="1816200" y="54658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1187280" y="476280"/>
            <a:ext cx="69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9900"/>
                </a:solidFill>
                <a:latin typeface="Arial"/>
              </a:rPr>
              <a:t>Σχολικό εργαστήριο: γιατί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1116000" y="1413000"/>
            <a:ext cx="705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003300"/>
                </a:solidFill>
                <a:latin typeface="Arial"/>
              </a:rPr>
              <a:t>Το σχολικό εργαστήριο συνήθως χρησιμοποιείται ως διδακτικό μέσο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187280" y="5094360"/>
            <a:ext cx="2903760" cy="115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9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Untitled-1%20copy"/>
          <p:cNvPicPr/>
          <p:nvPr/>
        </p:nvPicPr>
        <p:blipFill>
          <a:blip r:embed="rId1"/>
          <a:stretch/>
        </p:blipFill>
        <p:spPr>
          <a:xfrm>
            <a:off x="1187280" y="549360"/>
            <a:ext cx="6448680" cy="48038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851000" y="5229360"/>
            <a:ext cx="3969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6. Νεροχύτης με ντουλάπι βάσης και κρεμαστ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7. Οθφαλμόλουτρο με ντουλάπι βάσης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8. Θέση τηλεόρασης- βίντε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9. Απαγωγός αερίω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10. Πίνακα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323000" y="5229360"/>
            <a:ext cx="3588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1. Πάγκος εργασίας μαθητώ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2. Οργανοθήκες μαθητή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3. Οργανοθήκες καθηγητ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4. Πάγκος επιδείξεων/ εργασίας καθηγητή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l-GR" sz="1400" spc="-1" strike="noStrike">
                <a:solidFill>
                  <a:srgbClr val="000066"/>
                </a:solidFill>
                <a:latin typeface="Arial"/>
              </a:rPr>
              <a:t>5. Τροχήλατο γραφείο Η/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7524720" y="2924280"/>
            <a:ext cx="1440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66"/>
                </a:solidFill>
                <a:latin typeface="Times New Roman"/>
              </a:rPr>
              <a:t>ΥΠΕΠΘ/ΔΙΠΕ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66"/>
                </a:solidFill>
                <a:latin typeface="Times New Roman"/>
              </a:rPr>
              <a:t>Αρχιτεκτονική μελέτη μετασκευής αιθουσών Γεν. Λυκείου για τη δημιουργία εργαστηρίω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66"/>
                </a:solidFill>
                <a:latin typeface="Times New Roman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4213080" y="3213000"/>
            <a:ext cx="119736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66"/>
                </a:solidFill>
                <a:latin typeface="Arial"/>
              </a:rPr>
              <a:t>Εμβαδόν 72,5 τ.μ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4"/>
          <p:cNvSpPr/>
          <p:nvPr/>
        </p:nvSpPr>
        <p:spPr>
          <a:xfrm>
            <a:off x="0" y="357120"/>
            <a:ext cx="914400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669900"/>
                </a:solidFill>
                <a:latin typeface="Arial"/>
              </a:rPr>
              <a:t>Αρχιτεκτονικές μελέτ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ab_15oΓΕΛ Αθηνων"/>
          <p:cNvPicPr/>
          <p:nvPr/>
        </p:nvPicPr>
        <p:blipFill>
          <a:blip r:embed="rId1"/>
          <a:stretch/>
        </p:blipFill>
        <p:spPr>
          <a:xfrm>
            <a:off x="1403280" y="1197000"/>
            <a:ext cx="6334200" cy="4432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478520" y="5661000"/>
            <a:ext cx="611676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Σχολικό εργαστήριο φυσικών επιστημών λυκείου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</a:rPr>
              <a:t>(ΕΠΕΑΕ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5"/>
          <p:cNvGrpSpPr/>
          <p:nvPr/>
        </p:nvGrpSpPr>
        <p:grpSpPr>
          <a:xfrm>
            <a:off x="3922200" y="6021360"/>
            <a:ext cx="4267080" cy="302400"/>
            <a:chOff x="3922200" y="6021360"/>
            <a:chExt cx="4267080" cy="302400"/>
          </a:xfrm>
        </p:grpSpPr>
        <p:sp>
          <p:nvSpPr>
            <p:cNvPr id="66" name="Text Box 6"/>
            <p:cNvSpPr/>
            <p:nvPr/>
          </p:nvSpPr>
          <p:spPr>
            <a:xfrm>
              <a:off x="3922200" y="6092640"/>
              <a:ext cx="42670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Ε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πιχειρησιακό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Π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ρόγραμμα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Ε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κπαίδευσης &amp;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ρχικής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Ε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παγγελματικής </a:t>
              </a:r>
              <a:r>
                <a:rPr b="1" lang="el-GR" sz="900" spc="-1" strike="noStrike">
                  <a:solidFill>
                    <a:srgbClr val="000000"/>
                  </a:solidFill>
                  <a:latin typeface="Arial"/>
                </a:rPr>
                <a:t>Κ</a:t>
              </a:r>
              <a:r>
                <a:rPr b="0" lang="el-GR" sz="900" spc="-1" strike="noStrike">
                  <a:solidFill>
                    <a:srgbClr val="000000"/>
                  </a:solidFill>
                  <a:latin typeface="Arial"/>
                </a:rPr>
                <a:t>ατάρτιση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"/>
            <p:cNvSpPr/>
            <p:nvPr/>
          </p:nvSpPr>
          <p:spPr>
            <a:xfrm>
              <a:off x="3924360" y="6021360"/>
              <a:ext cx="4116240" cy="258480"/>
            </a:xfrm>
            <a:custGeom>
              <a:avLst/>
              <a:gdLst>
                <a:gd name="textAreaLeft" fmla="*/ 0 w 4116240"/>
                <a:gd name="textAreaRight" fmla="*/ 4116600 w 4116240"/>
                <a:gd name="textAreaTop" fmla="*/ 0 h 258480"/>
                <a:gd name="textAreaBottom" fmla="*/ 258840 h 258480"/>
              </a:gdLst>
              <a:ahLst/>
              <a:rect l="textAreaLeft" t="textAreaTop" r="textAreaRight" b="textAreaBottom"/>
              <a:pathLst>
                <a:path w="2593" h="163">
                  <a:moveTo>
                    <a:pt x="0" y="163"/>
                  </a:moveTo>
                  <a:lnTo>
                    <a:pt x="31" y="54"/>
                  </a:lnTo>
                  <a:lnTo>
                    <a:pt x="193" y="60"/>
                  </a:lnTo>
                  <a:lnTo>
                    <a:pt x="668" y="64"/>
                  </a:lnTo>
                  <a:lnTo>
                    <a:pt x="1321" y="66"/>
                  </a:lnTo>
                  <a:lnTo>
                    <a:pt x="1753" y="60"/>
                  </a:lnTo>
                  <a:lnTo>
                    <a:pt x="1889" y="41"/>
                  </a:lnTo>
                  <a:lnTo>
                    <a:pt x="2005" y="0"/>
                  </a:lnTo>
                  <a:lnTo>
                    <a:pt x="2383" y="66"/>
                  </a:lnTo>
                  <a:lnTo>
                    <a:pt x="2593" y="72"/>
                  </a:lnTo>
                </a:path>
              </a:pathLst>
            </a:custGeom>
            <a:noFill/>
            <a:ln w="936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 Box 15"/>
          <p:cNvSpPr/>
          <p:nvPr/>
        </p:nvSpPr>
        <p:spPr>
          <a:xfrm>
            <a:off x="1332000" y="476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9900"/>
                </a:solidFill>
                <a:latin typeface="Arial"/>
              </a:rPr>
              <a:t>Ο χώρ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100_0066 copy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403280" y="1125360"/>
            <a:ext cx="5904000" cy="4424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4"/>
          <p:cNvSpPr/>
          <p:nvPr/>
        </p:nvSpPr>
        <p:spPr>
          <a:xfrm>
            <a:off x="5292720" y="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ffffff"/>
                </a:solidFill>
                <a:latin typeface="Tahoma"/>
              </a:rPr>
              <a:t>εργονομική διαμόρφωση του χώρου</a:t>
            </a:r>
            <a:r>
              <a:rPr b="1" lang="el-GR" sz="1400" spc="-1" strike="noStrike">
                <a:solidFill>
                  <a:srgbClr val="96969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1332000" y="47628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9900"/>
                </a:solidFill>
                <a:latin typeface="Arial"/>
              </a:rPr>
              <a:t>Ο χώρ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258920" y="5734080"/>
            <a:ext cx="619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669900"/>
                </a:solidFill>
                <a:latin typeface="Arial"/>
              </a:rPr>
              <a:t>Τυπικό εργαστήριο φυσικών επιστημών σε γυμνάσιο - λύκει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P2110002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042920" y="1125360"/>
            <a:ext cx="6120000" cy="4419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971640" y="620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9900"/>
                </a:solidFill>
                <a:latin typeface="Arial"/>
              </a:rPr>
              <a:t>Ο χώρος και οι δραστηρι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1042920" y="5805360"/>
            <a:ext cx="57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669900"/>
                </a:solidFill>
                <a:latin typeface="Arial"/>
              </a:rPr>
              <a:t>Πειραματική δραστηριότητα Βιολογί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249800" cy="318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2110003%20copy"/>
          <p:cNvPicPr/>
          <p:nvPr/>
        </p:nvPicPr>
        <p:blipFill>
          <a:blip r:embed="rId2"/>
          <a:stretch/>
        </p:blipFill>
        <p:spPr>
          <a:xfrm>
            <a:off x="250920" y="1700280"/>
            <a:ext cx="4248000" cy="31957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6"/>
          <p:cNvSpPr/>
          <p:nvPr/>
        </p:nvSpPr>
        <p:spPr>
          <a:xfrm>
            <a:off x="755640" y="620640"/>
            <a:ext cx="691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669900"/>
                </a:solidFill>
                <a:latin typeface="Arial"/>
              </a:rPr>
              <a:t>Ο χώρος και οι δραστηριότητε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900000" y="5229360"/>
            <a:ext cx="691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669900"/>
                </a:solidFill>
                <a:latin typeface="Arial"/>
              </a:rPr>
              <a:t>Πειραματικές δραστηριότητες φυσικής και βιολογία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719360" y="1195560"/>
            <a:ext cx="57052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673760" cy="1890720"/>
          </a:xfrm>
          <a:prstGeom prst="rect">
            <a:avLst/>
          </a:prstGeom>
          <a:ln w="0">
            <a:noFill/>
          </a:ln>
        </p:spPr>
      </p:pic>
      <p:sp>
        <p:nvSpPr>
          <p:cNvPr id="82" name="7 - TextBox"/>
          <p:cNvSpPr/>
          <p:nvPr/>
        </p:nvSpPr>
        <p:spPr>
          <a:xfrm>
            <a:off x="6588000" y="2924280"/>
            <a:ext cx="201636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6:40:14Z</dcterms:created>
  <dc:creator>Ioannis</dc:creator>
  <dc:description/>
  <dc:language>en-US</dc:language>
  <cp:lastModifiedBy>EKFE ALIMOU</cp:lastModifiedBy>
  <dcterms:modified xsi:type="dcterms:W3CDTF">2012-10-30T07:20:05Z</dcterms:modified>
  <cp:revision>92</cp:revision>
  <dc:subject/>
  <dc:title>Διαφάνεια 1</dc:title>
</cp:coreProperties>
</file>